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02A-C5E7-45A4-A2C7-3F214931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1ED-4F71-421A-986F-7924CD2D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FDC-C2F1-4A24-9003-C9F30778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863-A2D2-4872-9C13-5BAD4A17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DA0F-E995-40E5-9E47-1A13986B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148-372D-46A3-A383-C28E50A7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140D-DC9B-44FC-A90A-0A13B0C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DB6-1571-4C60-862E-2B2EED42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85B8-E912-455E-B378-B2CCC2CB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7BAF-49B6-459E-9572-0D674711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3C5-9AA4-44E3-99AD-684836B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2EA-C43C-47F4-A390-5609FBA9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1713-D624-47FC-A23D-8A54511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49E-6CAC-4055-A93F-DC5B3E3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DB9-1268-4E80-8B13-B2DAF4C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700-776F-4EBD-8616-0241FE98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3FF-F8D5-4033-8748-483670A9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CD8-A2FB-4447-A9A0-17FE149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5AB-D763-4C75-A9E3-8A12DF8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DB5-64A5-4A1F-883B-94F3766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6AA-5441-44DD-920B-96A1305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F09-19E1-4C65-B3B4-8995D04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919-1497-41BC-B6A7-BAD9EDD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1BC-CA4F-46AF-AEC8-B1340EC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B84C-6A05-4454-9FB9-10103CBA7F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118-6630-4272-9403-72CE5B504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4:28Z</dcterms:modified>
  <cp:revision>31</cp:revision>
  <dc:subject/>
  <dc:title>SALARIUL</dc:title>
</cp:coreProperties>
</file>